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061-135A-48E6-97D0-1FFFD5A8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2A26-A4C7-4016-BBDA-2AA3D6EB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206-3FDA-4EDF-976B-89BCB560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C707-B902-4B1A-9E61-37BF8D52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A910-E141-4129-99A6-9D080009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62A9-7ACC-4AFF-9839-97DDD2E3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BCFD-4153-46E4-AB82-02AC32F3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44EA-AAD6-4786-958D-81B1B3DA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ACE9-E731-4AF0-A9D7-753ECC1A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3BBC-A777-47FE-B414-36B1601B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5BEC-068C-44F9-8ACD-61FA35AD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20A-E35E-4487-9A83-E18C170B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A926-D78C-4D04-91BC-5A9E67B9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3DFC-B67A-44FA-80C8-6A33ADAF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94E2-BFA4-47BB-9C7F-37BE289B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6132-B38F-451E-BD1A-02D9516A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5E63-7E03-4C87-BA5B-43798B60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BD7-4E57-49C7-86CE-DD174863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76D-45EF-4120-9ADD-E61ED725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3241-E969-4B31-A090-EB7E2199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FDB-E476-48B0-9D43-EC4FE3EF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6AD-730E-46CF-9745-D32B16DA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4EB-B76D-4272-BC50-337835E5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7AE-7AC1-4931-8AE9-28C26E0C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6164-7A01-497D-9501-4ECFB8378AC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C831-70E7-4039-8395-29486A2F369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Open Archiving</a:t>
            </a:r>
            <a:br>
              <a:rPr sz="6000"/>
            </a:b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@ </a:t>
            </a:r>
            <a:br>
              <a:rPr sz="6000"/>
            </a:b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Virginia Tech</a:t>
            </a:r>
            <a:br>
              <a:rPr sz="6000"/>
            </a:b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DLRL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19320" y="4876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ussein Sulem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ttp://www.dlib.vt.ed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72280" cy="5972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72280" cy="5972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72280" cy="5972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72280" cy="5972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72280" cy="5972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7172280" cy="59724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ngoing Pro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RIAN OAI input/output filt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ai_marc definition, encoding and convers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l, JAVA codeb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DLTD Union Collec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T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hysD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ngoing Projects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T Digital Libra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ntral digital document archiv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STC and iLumin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tributed DL for educational mater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i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143000" y="1828800"/>
            <a:ext cx="7314840" cy="1904760"/>
            <a:chOff x="1143000" y="1828800"/>
            <a:chExt cx="7314840" cy="1904760"/>
          </a:xfrm>
        </p:grpSpPr>
        <p:sp>
          <p:nvSpPr>
            <p:cNvPr id="248" name=""/>
            <p:cNvSpPr/>
            <p:nvPr/>
          </p:nvSpPr>
          <p:spPr>
            <a:xfrm>
              <a:off x="1143000" y="1828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0280" y="201888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38280" y="2209680"/>
              <a:ext cx="39492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35920" y="240012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33560" y="259056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31560" y="2781360"/>
              <a:ext cx="39492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9200" y="2971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26480" y="316224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24480" y="3353040"/>
              <a:ext cx="39492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30200" y="1828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28200" y="2018880"/>
              <a:ext cx="39492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5480" y="2209680"/>
              <a:ext cx="39528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23120" y="240012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21120" y="2590560"/>
              <a:ext cx="39492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18760" y="2781360"/>
              <a:ext cx="39528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6400" y="2971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14400" y="3162240"/>
              <a:ext cx="39492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12040" y="3353040"/>
              <a:ext cx="39528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18760" y="1828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16400" y="201888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14400" y="2209680"/>
              <a:ext cx="39492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12040" y="240012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09320" y="259056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07320" y="2781360"/>
              <a:ext cx="39492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04960" y="2971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02600" y="316224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00600" y="3353040"/>
              <a:ext cx="39492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05960" y="1828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03960" y="2018880"/>
              <a:ext cx="39492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01600" y="2209680"/>
              <a:ext cx="39528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99240" y="240012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97240" y="2590560"/>
              <a:ext cx="39492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94880" y="2781360"/>
              <a:ext cx="39528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92160" y="2971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90160" y="3162240"/>
              <a:ext cx="39492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87800" y="3353040"/>
              <a:ext cx="39528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93880" y="1828800"/>
              <a:ext cx="39492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91160" y="201888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88800" y="2209680"/>
              <a:ext cx="39528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86800" y="2400120"/>
              <a:ext cx="39492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84440" y="259056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82080" y="2781360"/>
              <a:ext cx="39528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80080" y="2971800"/>
              <a:ext cx="39492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77360" y="316224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75000" y="3353040"/>
              <a:ext cx="39528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81080" y="1828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78360" y="201888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76720" y="2209680"/>
              <a:ext cx="39492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74000" y="240012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71640" y="259056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69640" y="2781360"/>
              <a:ext cx="39492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67280" y="297180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64920" y="3162240"/>
              <a:ext cx="39528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62920" y="3353040"/>
              <a:ext cx="394920" cy="380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819520" y="3962520"/>
            <a:ext cx="41148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05320" y="4038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A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2590920"/>
            <a:ext cx="6781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ts and lots of little archives all over the worl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5257800"/>
            <a:ext cx="2209680" cy="82548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national ETD Archiv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5257800"/>
            <a:ext cx="2895480" cy="11912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national Teaching Resources Archiv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15200" y="5410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tc 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at’s all Folks 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599840" y="3657240"/>
            <a:ext cx="57913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estions ? Comments 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are we involved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worked Digital Library of Theses and Dissertations (NDLTD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RIAN Information Retrieval Sys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uter Science Teaching Center (CSTC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taPle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Characterization Reposit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T-Imagebase, CDDC, 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pha Test Colle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T ETD Collec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ased at university libra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cessible through remote OAI interf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ximately 3000 recor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ynam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DLT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tributed digital libra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llingness of participants 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61722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smp2.cc.vt.edu/cgi-bin/hussein/vtetd/OAI1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ssues in OAI-Complia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eaning of da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ights management and ownershi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MARC, rfc1807 and D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mption toke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isting protocols and laye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smp2.cc.vt.edu/cgi-bin/hussein/vtetd/OAI1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cal Requirem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lemented in Perl for flexibility and platform-independe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iginal implementation took 3 hours, after a first reading of protocol 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smp2.cc.vt.edu/cgi-bin/hussein/vtetd/OAI1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pository Explor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ed consistency for NDLT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line vs Offl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tocol and XSD tes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eractive brows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utomatic test sui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st of demonstration archiv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72280" cy="5972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image11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47080" cy="5956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72280" cy="5972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57200" y="61657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http://purl.org/net/oai_explo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3T00:40:15Z</dcterms:created>
  <dc:creator>DLRL</dc:creator>
  <dc:description/>
  <dc:language>en-US</dc:language>
  <cp:lastModifiedBy>Hussein Suleman</cp:lastModifiedBy>
  <dcterms:modified xsi:type="dcterms:W3CDTF">2001-01-23T03:14:24Z</dcterms:modified>
  <cp:revision>7</cp:revision>
  <dc:subject/>
  <dc:title>Open Archives  @  Virginia Tech DLRL</dc:title>
</cp:coreProperties>
</file>